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DE76-4C87-4071-8FB5-6C3FF36863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8028-6F24-46EB-8D60-C92AA4B5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F117-B88E-4C71-8686-F7603CE7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D50F-D581-4B04-A864-3E23CAC54D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6C14-9D52-4FAF-8E33-5F7CC481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58BC-F5B4-4AC4-BCE6-4F7D2941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C58B-9FE9-4929-AFE3-DE2B48E6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4E0C-C934-4F47-B38A-52AA5288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3DF5-B119-4615-94F1-B23C93A2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4564-007C-4CA0-B96D-E2DAF630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8104-CE14-41DD-9DF7-03FB69A7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B5B6-B3E4-4BF1-952E-ACDA396F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D0C0-B6DB-4E24-A561-253E55E7AE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  咯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身体评估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生命体征、意识状态、营养状况等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头部及其器官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注意有无口腔及鼻腔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廓与肺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胸骨压痛、异常呼吸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心音强度的变化（尤其是有无 </a:t>
            </a:r>
            <a:r>
              <a:rPr b="0" lang="en-US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P2 </a:t>
            </a: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亢进）、有无病理性杂音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85480" y="121392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血气分析等实验室检查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或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、纤维支气管镜检查等影像学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功能检查、结核菌素试验等检查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窒息、失血性休克、肺不张、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组织灌注量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反复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概念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喉及喉部以下的呼吸道和肺组织出血并经口腔排出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可以是大量咯血、血痰或痰中带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5480" y="1213920"/>
            <a:ext cx="8286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系统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有支气管扩张症、支气管扩张症、支气管肺癌、肺结核、支气管内膜结核肺脓肿、慢性支气管炎、肺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928800" y="4000680"/>
            <a:ext cx="7215120" cy="1869840"/>
            <a:chOff x="928800" y="4000680"/>
            <a:chExt cx="7215120" cy="1869840"/>
          </a:xfrm>
        </p:grpSpPr>
        <p:grpSp>
          <p:nvGrpSpPr>
            <p:cNvPr id="112" name="组合 44"/>
            <p:cNvGrpSpPr/>
            <p:nvPr/>
          </p:nvGrpSpPr>
          <p:grpSpPr>
            <a:xfrm>
              <a:off x="928800" y="4000680"/>
              <a:ext cx="7215120" cy="1071360"/>
              <a:chOff x="928800" y="4000680"/>
              <a:chExt cx="7215120" cy="1071360"/>
            </a:xfrm>
          </p:grpSpPr>
          <p:grpSp>
            <p:nvGrpSpPr>
              <p:cNvPr id="113" name="组合 32"/>
              <p:cNvGrpSpPr/>
              <p:nvPr/>
            </p:nvGrpSpPr>
            <p:grpSpPr>
              <a:xfrm>
                <a:off x="928800" y="4000680"/>
                <a:ext cx="5688720" cy="1071360"/>
                <a:chOff x="928800" y="4000680"/>
                <a:chExt cx="5688720" cy="1071360"/>
              </a:xfrm>
            </p:grpSpPr>
            <p:grpSp>
              <p:nvGrpSpPr>
                <p:cNvPr id="114" name="Group 21"/>
                <p:cNvGrpSpPr/>
                <p:nvPr/>
              </p:nvGrpSpPr>
              <p:grpSpPr>
                <a:xfrm>
                  <a:off x="2011320" y="4000680"/>
                  <a:ext cx="4606200" cy="1071360"/>
                  <a:chOff x="2011320" y="4000680"/>
                  <a:chExt cx="4606200" cy="1071360"/>
                </a:xfrm>
              </p:grpSpPr>
              <p:sp>
                <p:nvSpPr>
                  <p:cNvPr id="115" name="Rectangle 6"/>
                  <p:cNvSpPr/>
                  <p:nvPr/>
                </p:nvSpPr>
                <p:spPr>
                  <a:xfrm>
                    <a:off x="2807640" y="4214520"/>
                    <a:ext cx="1877400" cy="64260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支气管黏膜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病灶处毛细血管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7"/>
                  <p:cNvSpPr/>
                  <p:nvPr/>
                </p:nvSpPr>
                <p:spPr>
                  <a:xfrm>
                    <a:off x="5292360" y="4000680"/>
                    <a:ext cx="1325160" cy="3747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通透性增高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8"/>
                  <p:cNvSpPr/>
                  <p:nvPr/>
                </p:nvSpPr>
                <p:spPr>
                  <a:xfrm>
                    <a:off x="5292360" y="4696920"/>
                    <a:ext cx="1325160" cy="37512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血管破裂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8" name="AutoShape 12"/>
                  <p:cNvCxnSpPr>
                    <a:stCxn id="115" idx="1"/>
                    <a:endCxn id="115" idx="3"/>
                  </p:cNvCxnSpPr>
                  <p:nvPr/>
                </p:nvCxnSpPr>
                <p:spPr>
                  <a:xfrm>
                    <a:off x="2797200" y="4535640"/>
                    <a:ext cx="1898640" cy="1080"/>
                  </a:xfrm>
                  <a:prstGeom prst="straightConnector1">
                    <a:avLst/>
                  </a:prstGeom>
                  <a:ln cap="rnd" w="12600">
                    <a:solidFill>
                      <a:srgbClr val="009e75"/>
                    </a:solidFill>
                    <a:custDash>
                      <a:ds d="100000" sp="1000"/>
                    </a:custDash>
                    <a:miter/>
                  </a:ln>
                </p:spPr>
              </p:cxnSp>
              <p:cxnSp>
                <p:nvCxnSpPr>
                  <p:cNvPr id="119" name="AutoShape 13"/>
                  <p:cNvCxnSpPr>
                    <a:stCxn id="115" idx="3"/>
                    <a:endCxn id="116" idx="1"/>
                  </p:cNvCxnSpPr>
                  <p:nvPr/>
                </p:nvCxnSpPr>
                <p:spPr>
                  <a:xfrm flipV="1">
                    <a:off x="4695120" y="4187880"/>
                    <a:ext cx="587160" cy="34848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0" name="AutoShape 14"/>
                  <p:cNvCxnSpPr>
                    <a:stCxn id="115" idx="3"/>
                    <a:endCxn id="117" idx="1"/>
                  </p:cNvCxnSpPr>
                  <p:nvPr/>
                </p:nvCxnSpPr>
                <p:spPr>
                  <a:xfrm>
                    <a:off x="4695120" y="4535640"/>
                    <a:ext cx="587160" cy="34884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1" name="AutoShape 19"/>
                  <p:cNvCxnSpPr/>
                  <p:nvPr/>
                </p:nvCxnSpPr>
                <p:spPr>
                  <a:xfrm>
                    <a:off x="2011320" y="4570920"/>
                    <a:ext cx="767880" cy="1440"/>
                  </a:xfrm>
                  <a:prstGeom prst="straightConnector1">
                    <a:avLst/>
                  </a:prstGeom>
                  <a:ln w="28440">
                    <a:solidFill>
                      <a:srgbClr val="6600cc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122" name="Rectangle 8"/>
                <p:cNvSpPr/>
                <p:nvPr/>
              </p:nvSpPr>
              <p:spPr>
                <a:xfrm>
                  <a:off x="928800" y="4357800"/>
                  <a:ext cx="104004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病变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" name="AutoShape 13"/>
              <p:cNvCxnSpPr/>
              <p:nvPr/>
            </p:nvCxnSpPr>
            <p:spPr>
              <a:xfrm>
                <a:off x="6617520" y="4205880"/>
                <a:ext cx="694440" cy="29520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14"/>
              <p:cNvCxnSpPr>
                <a:stCxn id="117" idx="3"/>
              </p:cNvCxnSpPr>
              <p:nvPr/>
            </p:nvCxnSpPr>
            <p:spPr>
              <a:xfrm flipV="1">
                <a:off x="6617520" y="4500360"/>
                <a:ext cx="694440" cy="38448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grpSp>
            <p:nvGrpSpPr>
              <p:cNvPr id="125" name="组合 43"/>
              <p:cNvGrpSpPr/>
              <p:nvPr/>
            </p:nvGrpSpPr>
            <p:grpSpPr>
              <a:xfrm>
                <a:off x="7311600" y="4286160"/>
                <a:ext cx="832320" cy="398880"/>
                <a:chOff x="7311600" y="4286160"/>
                <a:chExt cx="832320" cy="398880"/>
              </a:xfrm>
            </p:grpSpPr>
            <p:sp>
              <p:nvSpPr>
                <p:cNvPr id="126" name="Rectangle 6"/>
                <p:cNvSpPr/>
                <p:nvPr/>
              </p:nvSpPr>
              <p:spPr>
                <a:xfrm>
                  <a:off x="7311600" y="4286160"/>
                  <a:ext cx="83232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42"/>
                <p:cNvSpPr/>
                <p:nvPr/>
              </p:nvSpPr>
              <p:spPr>
                <a:xfrm>
                  <a:off x="7476480" y="42861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咯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Box 48"/>
            <p:cNvSpPr/>
            <p:nvPr/>
          </p:nvSpPr>
          <p:spPr>
            <a:xfrm>
              <a:off x="3643200" y="5500800"/>
              <a:ext cx="1785960" cy="36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矩形 46"/>
          <p:cNvSpPr/>
          <p:nvPr/>
        </p:nvSpPr>
        <p:spPr>
          <a:xfrm>
            <a:off x="4109400" y="5429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出血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血管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二尖瓣狭窄、原发性肺动脉高压症、其他原因所致的肺动脉高压、肺梗死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组合 5"/>
          <p:cNvGrpSpPr/>
          <p:nvPr/>
        </p:nvGrpSpPr>
        <p:grpSpPr>
          <a:xfrm>
            <a:off x="1142280" y="3429000"/>
            <a:ext cx="6358680" cy="2857680"/>
            <a:chOff x="1142280" y="3429000"/>
            <a:chExt cx="6358680" cy="2857680"/>
          </a:xfrm>
        </p:grpSpPr>
        <p:grpSp>
          <p:nvGrpSpPr>
            <p:cNvPr id="134" name="组合 95"/>
            <p:cNvGrpSpPr/>
            <p:nvPr/>
          </p:nvGrpSpPr>
          <p:grpSpPr>
            <a:xfrm>
              <a:off x="2714400" y="3429000"/>
              <a:ext cx="4786560" cy="2857680"/>
              <a:chOff x="2714400" y="3429000"/>
              <a:chExt cx="4786560" cy="2857680"/>
            </a:xfrm>
          </p:grpSpPr>
          <p:grpSp>
            <p:nvGrpSpPr>
              <p:cNvPr id="135" name="组合 66"/>
              <p:cNvGrpSpPr/>
              <p:nvPr/>
            </p:nvGrpSpPr>
            <p:grpSpPr>
              <a:xfrm>
                <a:off x="2714400" y="3429000"/>
                <a:ext cx="4715280" cy="1571760"/>
                <a:chOff x="2714400" y="3429000"/>
                <a:chExt cx="4715280" cy="1571760"/>
              </a:xfrm>
            </p:grpSpPr>
            <p:cxnSp>
              <p:nvCxnSpPr>
                <p:cNvPr id="136" name="AutoShape 14"/>
                <p:cNvCxnSpPr/>
                <p:nvPr/>
              </p:nvCxnSpPr>
              <p:spPr>
                <a:xfrm flipH="1">
                  <a:off x="3642840" y="4000320"/>
                  <a:ext cx="2160" cy="357840"/>
                </a:xfrm>
                <a:prstGeom prst="straightConnector1">
                  <a:avLst/>
                </a:prstGeom>
                <a:ln w="2844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7" name="组合 63"/>
                <p:cNvGrpSpPr/>
                <p:nvPr/>
              </p:nvGrpSpPr>
              <p:grpSpPr>
                <a:xfrm>
                  <a:off x="2714400" y="3429000"/>
                  <a:ext cx="4715280" cy="1571760"/>
                  <a:chOff x="2714400" y="3429000"/>
                  <a:chExt cx="4715280" cy="1571760"/>
                </a:xfrm>
              </p:grpSpPr>
              <p:grpSp>
                <p:nvGrpSpPr>
                  <p:cNvPr id="138" name="组合 50"/>
                  <p:cNvGrpSpPr/>
                  <p:nvPr/>
                </p:nvGrpSpPr>
                <p:grpSpPr>
                  <a:xfrm>
                    <a:off x="2714400" y="3429000"/>
                    <a:ext cx="4715280" cy="1143000"/>
                    <a:chOff x="2714400" y="3429000"/>
                    <a:chExt cx="4715280" cy="1143000"/>
                  </a:xfrm>
                </p:grpSpPr>
                <p:sp>
                  <p:nvSpPr>
                    <p:cNvPr id="139" name="Rectangle 4"/>
                    <p:cNvSpPr/>
                    <p:nvPr/>
                  </p:nvSpPr>
                  <p:spPr>
                    <a:xfrm>
                      <a:off x="5643720" y="3429000"/>
                      <a:ext cx="1571760" cy="214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瘀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Rectangle 5"/>
                    <p:cNvSpPr/>
                    <p:nvPr/>
                  </p:nvSpPr>
                  <p:spPr>
                    <a:xfrm>
                      <a:off x="5429160" y="3994200"/>
                      <a:ext cx="2000520" cy="5778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泡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支气管黏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141" name="AutoShape 9"/>
                    <p:cNvCxnSpPr>
                      <a:stCxn id="139" idx="2"/>
                      <a:endCxn id="140" idx="0"/>
                    </p:cNvCxnSpPr>
                    <p:nvPr/>
                  </p:nvCxnSpPr>
                  <p:spPr>
                    <a:xfrm flipH="1">
                      <a:off x="6428520" y="3643560"/>
                      <a:ext cx="2160" cy="351360"/>
                    </a:xfrm>
                    <a:prstGeom prst="straightConnector1">
                      <a:avLst/>
                    </a:prstGeom>
                    <a:ln w="28440">
                      <a:solidFill>
                        <a:srgbClr val="009e75"/>
                      </a:solidFill>
                      <a:miter/>
                      <a:tailEnd len="med" type="triangle" w="med"/>
                    </a:ln>
                  </p:spPr>
                </p:cxnSp>
                <p:sp>
                  <p:nvSpPr>
                    <p:cNvPr id="142" name="线形标注 2 20"/>
                    <p:cNvSpPr/>
                    <p:nvPr/>
                  </p:nvSpPr>
                  <p:spPr>
                    <a:xfrm flipV="1" rot="10800000">
                      <a:off x="2714400" y="3643200"/>
                      <a:ext cx="1857600" cy="311040"/>
                    </a:xfrm>
                    <a:prstGeom prst="borderCallout2">
                      <a:avLst>
                        <a:gd name="adj1" fmla="val 18750"/>
                        <a:gd name="adj2" fmla="val -8333"/>
                        <a:gd name="adj3" fmla="val 18518"/>
                        <a:gd name="adj4" fmla="val -16666"/>
                        <a:gd name="adj5" fmla="val 113425"/>
                        <a:gd name="adj6" fmla="val -46296"/>
                      </a:avLst>
                    </a:prstGeom>
                    <a:solidFill>
                      <a:srgbClr val="ffffff"/>
                    </a:solidFill>
                    <a:ln w="25560">
                      <a:solidFill>
                        <a:srgbClr val="99669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毛细血管破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Rectangle 6"/>
                  <p:cNvSpPr/>
                  <p:nvPr/>
                </p:nvSpPr>
                <p:spPr>
                  <a:xfrm>
                    <a:off x="2714400" y="4357800"/>
                    <a:ext cx="1877400" cy="6429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小量咯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痰中带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" name="组合 69"/>
              <p:cNvGrpSpPr/>
              <p:nvPr/>
            </p:nvGrpSpPr>
            <p:grpSpPr>
              <a:xfrm>
                <a:off x="2785320" y="5214960"/>
                <a:ext cx="4715640" cy="577800"/>
                <a:chOff x="2785320" y="5214960"/>
                <a:chExt cx="4715640" cy="577800"/>
              </a:xfrm>
            </p:grpSpPr>
            <p:sp>
              <p:nvSpPr>
                <p:cNvPr id="145" name="Rectangle 5"/>
                <p:cNvSpPr/>
                <p:nvPr/>
              </p:nvSpPr>
              <p:spPr>
                <a:xfrm>
                  <a:off x="5403600" y="5214960"/>
                  <a:ext cx="2097360" cy="57780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黏膜下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静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46" name="线形标注 2 12"/>
                <p:cNvSpPr/>
                <p:nvPr/>
              </p:nvSpPr>
              <p:spPr>
                <a:xfrm flipV="1" rot="10800000">
                  <a:off x="2785320" y="5286240"/>
                  <a:ext cx="1644840" cy="285840"/>
                </a:xfrm>
                <a:prstGeom prst="borderCallout2">
                  <a:avLst>
                    <a:gd name="adj1" fmla="val 18750"/>
                    <a:gd name="adj2" fmla="val -8333"/>
                    <a:gd name="adj3" fmla="val 18518"/>
                    <a:gd name="adj4" fmla="val -16666"/>
                    <a:gd name="adj5" fmla="val 113425"/>
                    <a:gd name="adj6" fmla="val -46296"/>
                  </a:avLst>
                </a:prstGeom>
                <a:solidFill>
                  <a:srgbClr val="ffffff"/>
                </a:solidFill>
                <a:ln w="25560">
                  <a:solidFill>
                    <a:srgbClr val="9966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曲张破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Rectangle 4"/>
              <p:cNvSpPr/>
              <p:nvPr/>
            </p:nvSpPr>
            <p:spPr>
              <a:xfrm>
                <a:off x="2856960" y="6001200"/>
                <a:ext cx="1571760" cy="285480"/>
              </a:xfrm>
              <a:prstGeom prst="rect">
                <a:avLst/>
              </a:prstGeom>
              <a:noFill/>
              <a:ln w="28440">
                <a:solidFill>
                  <a:srgbClr val="009e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量咯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Box 97"/>
            <p:cNvSpPr/>
            <p:nvPr/>
          </p:nvSpPr>
          <p:spPr>
            <a:xfrm>
              <a:off x="1142280" y="4000320"/>
              <a:ext cx="911880" cy="171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出血机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直接连接符 21"/>
          <p:cNvSpPr/>
          <p:nvPr/>
        </p:nvSpPr>
        <p:spPr>
          <a:xfrm flipV="1">
            <a:off x="2714760" y="4680000"/>
            <a:ext cx="1877760" cy="144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0" name="AutoShape 14"/>
          <p:cNvCxnSpPr/>
          <p:nvPr/>
        </p:nvCxnSpPr>
        <p:spPr>
          <a:xfrm flipH="1">
            <a:off x="3571560" y="5643720"/>
            <a:ext cx="2160" cy="35784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液病：如白血病、血小板减少性紫癜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急性传染病：流行性出血热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身免疫性疾病：见于白塞病、结节性多动脉炎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其他：如遗传性毛细血管扩张症、各种原因所致的 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DIC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214280"/>
            <a:ext cx="84866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认是否为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组合 6"/>
          <p:cNvGrpSpPr/>
          <p:nvPr/>
        </p:nvGrpSpPr>
        <p:grpSpPr>
          <a:xfrm>
            <a:off x="1071720" y="2214720"/>
            <a:ext cx="7286400" cy="4285800"/>
            <a:chOff x="1071720" y="2214720"/>
            <a:chExt cx="7286400" cy="4285800"/>
          </a:xfrm>
        </p:grpSpPr>
        <p:pic>
          <p:nvPicPr>
            <p:cNvPr id="158" name="Picture 5" descr=""/>
            <p:cNvPicPr/>
            <p:nvPr/>
          </p:nvPicPr>
          <p:blipFill>
            <a:blip r:embed="rId1"/>
            <a:stretch/>
          </p:blipFill>
          <p:spPr>
            <a:xfrm>
              <a:off x="1071720" y="2350440"/>
              <a:ext cx="7286400" cy="41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5"/>
            <p:cNvSpPr/>
            <p:nvPr/>
          </p:nvSpPr>
          <p:spPr>
            <a:xfrm>
              <a:off x="3390120" y="2214720"/>
              <a:ext cx="86112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的特点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评估咯血患者的年龄特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量的临床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的颜色和性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5715000" y="2500200"/>
            <a:ext cx="2857680" cy="1618560"/>
          </a:xfrm>
          <a:prstGeom prst="rect">
            <a:avLst/>
          </a:prstGeom>
          <a:noFill/>
          <a:ln w="2844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日咯血量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内为小量，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等量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上或一次咯血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大量。一般少量咯血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可仅表现为痰中带血。中等量以上咯血，咯血前患者可有胸闷、咽痒、咳嗽等先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6215040" y="1928880"/>
            <a:ext cx="18572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咯血的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6" descr="C:\Documents and Settings\Administrator\Application Data\360se6\Application\User Data\temp\u=765158148,3396907982&amp;fm=21&amp;gp=0.jpg"/>
          <p:cNvPicPr/>
          <p:nvPr/>
        </p:nvPicPr>
        <p:blipFill>
          <a:blip r:embed="rId1"/>
          <a:stretch/>
        </p:blipFill>
        <p:spPr>
          <a:xfrm>
            <a:off x="1646280" y="3859200"/>
            <a:ext cx="21765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09400" indent="-16416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与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胸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大量脓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皮肤、黏膜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C:\Documents and Settings\Administrator\Application Data\360se6\Application\User Data\temp\u=1531314385,1584204015&amp;fm=21&amp;gp=0.jpg"/>
          <p:cNvPicPr/>
          <p:nvPr/>
        </p:nvPicPr>
        <p:blipFill>
          <a:blip r:embed="rId1"/>
          <a:stretch/>
        </p:blipFill>
        <p:spPr>
          <a:xfrm>
            <a:off x="5857920" y="1785960"/>
            <a:ext cx="2036880" cy="164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Documents and Settings\Administrator\Application Data\360se6\Application\User Data\temp\u=2626546494,1699482214&amp;fm=21&amp;gp=0.jpg"/>
          <p:cNvPicPr/>
          <p:nvPr/>
        </p:nvPicPr>
        <p:blipFill>
          <a:blip r:embed="rId2"/>
          <a:stretch/>
        </p:blipFill>
        <p:spPr>
          <a:xfrm>
            <a:off x="5999040" y="3998880"/>
            <a:ext cx="1859040" cy="1736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C:\Documents and Settings\Administrator\Application Data\360se6\Application\User Data\temp\u=3170954899,1170103886&amp;fm=21&amp;gp=0.jpg"/>
          <p:cNvPicPr/>
          <p:nvPr/>
        </p:nvPicPr>
        <p:blipFill>
          <a:blip r:embed="rId3"/>
          <a:stretch/>
        </p:blipFill>
        <p:spPr>
          <a:xfrm>
            <a:off x="1785960" y="4286160"/>
            <a:ext cx="24876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85840" y="121392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窒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失血性休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肺不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继发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咯血相关的疾病史或诱发因素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后有无采取相应的处理措施及其效果等，包括诊断、治疗的经过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21:53Z</dcterms:modified>
  <cp:revision>1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